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FEA0-6BA6-41E8-8486-926B71D438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5B35-F33F-4AEC-BF71-1ADAFC152C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B5FE73-2599-423D-AE59-3B90CC3D4D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A337-FC12-445D-BFEE-53CA099C1D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C62A-40F5-4BB8-823B-055133ED0F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F7FC-5138-4428-B406-779959EA8C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4CF4-6FBD-4605-B3AE-987330A9A8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818E-605A-4B68-BD5F-A9B6ADD9FA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EF9-5EEF-4D8D-9F31-46D15D71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FF4-EB5B-4A26-BC5C-F6796112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C9E-506F-4BA3-B0E8-92FFE411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C59-0A76-45A3-994A-018F2DD8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A40B-4501-4E94-86BA-3C3948A5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BA4-870B-4551-93CC-A7C8C996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54E-B599-4D73-91DB-4A5E13BC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7E0-6B0F-4244-A9C4-A92C327F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E39-CFBE-4E6B-A2DB-6EA12311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84C-A4AE-4844-AFCE-BA8D8619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576-ECBC-4732-868A-EC402750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C88-9109-4875-B52E-28F30FDF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03D0-F46D-410C-BE0E-DFB614D7BF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19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5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5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5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6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6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6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7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7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7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7400"/>
                <a:gridCol w="9349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19 апреля 2019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&lt; = 30.2120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&lt; =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1268280"/>
          <a:ext cx="8715600" cy="5400720"/>
        </p:xfrm>
        <a:graphic>
          <a:graphicData uri="http://schemas.openxmlformats.org/drawingml/2006/table">
            <a:tbl>
              <a:tblPr/>
              <a:tblGrid>
                <a:gridCol w="4537080"/>
                <a:gridCol w="503280"/>
                <a:gridCol w="916200"/>
                <a:gridCol w="1306440"/>
                <a:gridCol w="1452600"/>
              </a:tblGrid>
              <a:tr h="14320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8280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5480" y="1857240"/>
            <a:ext cx="8372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344920"/>
            <a:ext cx="80154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полненных вызов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1413000"/>
          <a:ext cx="7561080" cy="39988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765000"/>
          <a:ext cx="8643960" cy="530100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863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вызовов (обращений) для оказания медицинской помощи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7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травмоцентры 1 и 2 уров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еста дорожно-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6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9 г. по сравнению с 2018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+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= &lt; 30.1060.1.03 + 30.1060.2.03 + 30.1060.3.03+ 30.1060.4.03 + 30.1060.5.03 + 30.1060.6.03 + 30.1060.7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941400"/>
                <a:gridCol w="1251000"/>
                <a:gridCol w="1249200"/>
                <a:gridCol w="1251000"/>
                <a:gridCol w="1251000"/>
              </a:tblGrid>
              <a:tr h="352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7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5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9-12-10T04:45:47Z</dcterms:modified>
  <cp:revision>457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